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17BD-5B9E-4204-B533-DC72976CD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A794-9774-4E44-BC58-051A2D720A0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449D-36BA-4227-BC9C-388B0A3ACA4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DF45-E992-482C-ADCC-F367B9C86CD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EF780-955A-48CB-8D3E-B53BC770C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3503-8A1A-4D1B-893A-861233BA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CE9E7-9D4C-42C5-AAA1-0E349ECB9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3EB81-8E10-4C21-AC4B-3FB3F1F9B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41604-EEA0-4D02-8783-899D4C033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D95EA-6DD1-425D-9CCE-7192D9134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33BCB-3D20-4723-8E4A-EACA276A4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5A958-9CC0-4904-96F6-043CE70D1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B3988-8CED-4B3B-A048-A072A8DC4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CD2D4-56F1-4386-B351-B8405BE09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9942-DE8E-4599-ABBB-70F32943D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E20B0-9899-4001-A66D-556A839C4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05502-6F31-4C3A-B5BE-7588B88C4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EA6F4-AA0E-474D-999E-0BF42803E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F5CD5-C2CA-495C-B5E6-EC6303F1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64784-E18C-4615-A8BB-5F6BD3FE3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B17AC-4F0D-4EC2-9313-7E866D414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AF8F4D-DE8E-4807-A82F-67F17DEA9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67571-5D68-49AA-8152-7F2602C9C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7E1E9-D364-482F-A551-A5178DB85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6E3AA-2219-4B1E-BD84-549CAEDB4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31193-730F-42D6-9CB4-CB24B60AC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C13E3-A3E0-45C4-8DA9-01FA1268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1A843-1980-49C6-A593-E82F661DD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3BD24-8ECD-45B8-8C14-86C5EF8F1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7E85D-10D9-43E2-8938-F6DEC9564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B5A9E-E388-44CB-9A3E-B2878C162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5A518-4FEE-4E94-889B-39B0D67B1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E2243C-7EA5-4754-A9F1-7DB781CC49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AABCAF-C99A-4746-9B15-BBDAA9CC0D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18992-61C6-4040-B66B-50F70E8414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CFE33-69CC-4B01-9811-31526F9B7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4D9C0-F2A0-4A01-8944-8328975FE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84B7-6F34-4278-9765-8E2C68DA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A454B-85A9-4404-ADE8-3A3F98D65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12194-664D-428A-BCED-0FF4F316A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03CAA-CBD4-4A14-9C5A-FCC29EFA7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79FCA-E6A5-4BD5-AAB9-C7DF689AF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7FE1B-E66B-468C-B0C4-8F2A0190E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BF945-839B-4A41-BA59-A24C62C24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B74C2-C102-428D-9785-A35EE0BE6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79497B-54A6-4C74-9366-ECA8DFF5C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E20CA7-7CB2-4B12-A704-2B4AEA633B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39E4E-E54F-4526-8870-2C2C1C48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9633B-7521-40CE-929D-E8A0836D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6733-0247-47CB-B2FB-F5FB1323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7CDE-7A44-4353-90C4-2B861F60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B039-6B3F-4543-AFA5-2ABD53D14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7D57-E4CC-4B04-BB85-15F6C6522687}"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A2D2-E883-4D81-930F-2BB5DE6FBD6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27A9-A90C-4056-9C67-CEAB332E2715}"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7A15-EA35-4613-85EA-9BF29C66AFC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E99C-4109-45D5-AECE-CCD83D570A20}"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5F2B-87A7-429E-B980-F2B59F30640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DA12-EE0D-42EA-8647-0CCD6B1B3D51}"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B22F-0E74-4FBD-B78A-09C9B5207E1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hyperlink" Target="http://www.youtube.com/watch?v=4jTYDa1JzoE"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481040"/>
            <a:ext cx="8180280" cy="21830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73D4-702B-493C-B9C7-696643F24134}" type="datetime">
              <a:rPr b="0" lang="en-US" sz="1200" spc="-1" strike="noStrike">
                <a:solidFill>
                  <a:srgbClr val="d1eaee"/>
                </a:solidFill>
                <a:latin typeface="Verdana"/>
              </a:rPr>
              <a:t>07/30/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A474-0793-409B-AC27-38A22E203E5A}"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E8DA-9131-482B-868D-74A96C91CB1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4947-9710-4F56-AB45-671F041D993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44"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4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66DA-6228-46F9-8BEC-40EB81527339}"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8EBE-9480-46E9-A28C-929F4FE2986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7"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D45C-1A5C-4D0B-B081-D0BC11715DC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63C5-A1EC-4EF2-9AAE-1626329DFA9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3"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5"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E736-EB8F-4042-A7BC-DA732E9EC2E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6717-4AD7-4CCA-ABF1-CF27C88DB8B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A5E0-44DA-4847-87D1-CCE9D85BE92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96C7-8EB1-4352-8256-F924ED94F96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D842-E5FB-4338-9BD9-B29CD5D1F0A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A487-DFF0-4098-9AC9-13989997BBD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a:t>
            </a:r>
            <a:r>
              <a:rPr b="0" lang="en-US" sz="2600" spc="-1" strike="noStrike" u="sng">
                <a:solidFill>
                  <a:srgbClr val="e2d700"/>
                </a:solidFill>
                <a:uFillTx/>
                <a:latin typeface="Constantia"/>
                <a:hlinkClick r:id="rId2"/>
              </a:rPr>
              <a:t>The Boeing 787 Dreamliner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6588-120D-4943-A948-62FAB707A8A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700E-9FDC-4EA8-88DB-8B4B84FD5F7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72" name="Picture 7" descr=""/>
          <p:cNvPicPr/>
          <p:nvPr/>
        </p:nvPicPr>
        <p:blipFill>
          <a:blip r:embed="rId3"/>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A0FF-93D1-436C-AB46-FDABB55132C5}"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6B7F-88C1-450B-AD31-752DDE192DD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78"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74DC-53B4-4530-8602-B88E08EBAF37}"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CDB9-5481-4F49-B562-5D664B9B362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2"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74EB-2DD1-4C5A-B0F7-488560EB5AB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14B8-B207-4463-85C0-C4E4CFAE6A3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19AC-AB32-423E-A05F-D9478D1A3F6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8CC2-D339-49F3-8A45-7E0B23E7F21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4320-9882-4DDA-8A00-75DE80DB2BE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9AB7-6679-44D3-BE7F-C6E1BB59430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CF16-D1C9-4BE6-B728-9A9A52E28A64}"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806F-0438-4354-B45E-F5660699156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3C41-6D90-4477-9131-6C867E61D3E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92E3-6F32-49B6-A6A5-497305C7848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9A25-9AA0-47CE-8461-BEF63511E90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0726-8048-4AF8-9AD2-39497342993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F45B-DD78-4442-804D-BA25B926269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34B3-640F-4111-9A63-6F6E3EA55EF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4D3B-9892-4DAD-B328-795538B18C5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58D8-B24D-4FDC-A109-D568BB9E109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D7CF-CB39-4B26-8D27-DE4C27CFB6A9}"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59DB-EAE1-4A41-814E-24D5BD5A29B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2-01-04T18:09:44Z</dcterms:modified>
  <cp:revision>24</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